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1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2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6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EB7E-5EE1-44F4-8960-A6C51AF9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DCE-B877-4B5E-BE93-06EC97E9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D06B-D2EC-4F64-8BEB-D4985276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394B-3799-4AA5-9BA0-6A9330AD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ADA4-96F0-4980-BD7D-8951EB70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5AA4-DD31-45CE-B75B-B72D67AD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B99E-E118-4A84-9F1E-7FA8750D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45BA-B03D-413A-B564-4A67ADF0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FB55-C0B4-4349-A6F4-EA779DD0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5966-BBE7-47FC-9659-1DBFA43E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2075-87E3-4E20-9F52-E7FD456E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A9DB-80D7-463B-8E8D-B9B967C8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5CBD-9880-4E2E-AB3F-E6FE09DC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2A26-2C28-4C0C-807C-F762E0BB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C502-F7E8-4A04-8541-4CD60221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9094-ACD6-47A5-908B-DC37E7A9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F93E-55B5-4DBA-84A7-470FF53B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19565-1FD9-46C8-B683-F8BAD8E0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13804-657F-413A-9D40-9486E769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5D980-D2B2-41F0-94D3-6DFCD3C2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8BC53-5F09-4E4C-871B-15DF413F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F68F1-613A-41FB-B719-7DD69DAA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6947-EA9E-4CB6-A50C-D91C1846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CC143-AF0A-4BEE-9CBC-B1C9CDD1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D5A23-27AB-4F89-A861-AC571DD5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B978B-406E-438B-91AC-4FC31BBC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2CC88-D189-4FFF-95B1-833E505D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CB958-56A3-408C-B430-82FAA685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6316E-DBC4-4191-A1F2-96DFD1DF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921EE-0C16-4843-8F6A-60284C53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8BC01-4D2A-480B-9F2A-7FA178CD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FD249-4D8F-4035-965F-70EE8274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BD3D4-4AE0-452C-B857-1B53BAA7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93BB-A7F2-42ED-9C36-68726473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4267C-4781-4CA4-AD66-B9C1D19C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16429-C8EE-4B3D-ACF4-3AE783D1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6BF93-3D7C-4200-B0B7-CF4AF317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2B370-D856-41E0-9A60-D487021A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F768E-E1F3-48EA-9B76-B9FEE725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D6FB7-CE8E-4ABA-B5AA-56A5CC70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44F63-71D5-4AEE-9C1A-B358F56C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B7D83-1A95-4349-9368-46181C87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75064-C897-45CB-AB8C-6B24BA20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5595-8872-45F1-8EFF-8FB4EBD0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E807-0F57-4B21-BFB0-0C763596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F5A-C1AD-49D0-B910-66C08DB2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5A5B-2189-47E8-AAF6-50D8E383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FA61-4FB5-42A0-8B9F-849EA277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22EF-BECE-4635-9E58-0CD8455A3DCD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9A1B-6A3B-4FF2-8BF7-171B2CFAAFF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24A8-D8F3-4CE3-850A-C8555333FB8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7543-C0C3-4716-B47E-CEB4786B897D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2"/>
          <a:stretch/>
        </p:blipFill>
        <p:spPr>
          <a:xfrm>
            <a:off x="969840" y="1457280"/>
            <a:ext cx="7485120" cy="3627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8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50920" y="476280"/>
            <a:ext cx="86421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284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Решение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. Схема содержит шесть ветвей (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N</a:t>
            </a:r>
            <a:r>
              <a:rPr b="0" lang="en-US" sz="2800" spc="-1" strike="noStrike" baseline="-25000">
                <a:solidFill>
                  <a:srgbClr val="404040"/>
                </a:solidFill>
                <a:latin typeface="Trebuchet MS"/>
              </a:rPr>
              <a:t>b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= 6), четыре узла (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N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Trebuchet MS"/>
              </a:rPr>
              <a:t>у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= 4), один генератор тока (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N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Trebuchet MS"/>
              </a:rPr>
              <a:t>т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= 1). Число независимых уравнении, составляемых по методу контурных токов, равно двум  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284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(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K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= 6 - 4+1- 1 = 2)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Зададимся направлениями контурных токов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𝒥</a:t>
            </a:r>
            <a:r>
              <a:rPr b="1" i="1" lang="ru-RU" sz="28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, 𝒥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i="1" lang="ru-RU" sz="2800" spc="-1" strike="noStrike" baseline="-25000">
                <a:solidFill>
                  <a:srgbClr val="404040"/>
                </a:solidFill>
                <a:latin typeface="Trebuchet MS"/>
              </a:rPr>
              <a:t>,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ак показа­но на рисунке. Там же нанесен из­вестный контурный ток источника тока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J.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оставим систему уравнений для первого и второго контуров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284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(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Trebuchet MS"/>
              </a:rPr>
              <a:t>1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+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Trebuchet MS"/>
              </a:rPr>
              <a:t>2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+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Trebuchet MS"/>
              </a:rPr>
              <a:t>5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)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𝒥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+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Trebuchet MS"/>
              </a:rPr>
              <a:t>5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𝒥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Trebuchet MS"/>
              </a:rPr>
              <a:t>2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+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Trebuchet MS"/>
              </a:rPr>
              <a:t>1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J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284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Trebuchet MS"/>
              </a:rPr>
              <a:t>5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𝒥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Trebuchet MS"/>
              </a:rPr>
              <a:t>1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+ (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Trebuchet MS"/>
              </a:rPr>
              <a:t>3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+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Trebuchet MS"/>
              </a:rPr>
              <a:t>4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+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Trebuchet MS"/>
              </a:rPr>
              <a:t>5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)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𝒥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Trebuchet MS"/>
              </a:rPr>
              <a:t>2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Trebuchet MS"/>
              </a:rPr>
              <a:t>3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J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= 0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50920" y="185040"/>
            <a:ext cx="8713800" cy="42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авляя цифровые значения и решая эти уравнения, найдем контурные токи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 30 ма 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0 м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мые ток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0 ма;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0 ма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 ма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0 ма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 м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нс мощносте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21276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U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 = - E 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211640" y="3357720"/>
                <a:ext cx="2808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324000" y="4339080"/>
            <a:ext cx="86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Подставляя числовые значения, получим тождество: 11,2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m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= 11,2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m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rebuchet MS"/>
              </a:rPr>
              <a:t>методом узловых потенциалов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240" y="2637000"/>
            <a:ext cx="672948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080"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ано: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=30 в, Е2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0 в,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3 = 200в, Е4 =56в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1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= 20ом,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г=30ом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,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3 = 6ом,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4 = 8ом,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5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=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5ом,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6 = 40 ом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7 = 10 о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Объект 7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8423280" cy="60498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7"/>
          <p:cNvSpPr/>
          <p:nvPr/>
        </p:nvSpPr>
        <p:spPr>
          <a:xfrm>
            <a:off x="7596360" y="631836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Рис. 1.46. а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Объект 8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8064360" cy="59770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7"/>
          <p:cNvSpPr/>
          <p:nvPr/>
        </p:nvSpPr>
        <p:spPr>
          <a:xfrm>
            <a:off x="7569360" y="634680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Рис. 1.46. б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68000" y="731880"/>
            <a:ext cx="82803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ешение. Примем потенциал точки 3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авным нулю (φ3 = 0). Тогда на основании (1.13) запишем систему уравнений для определения потенциалов точек 1 и 2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         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φ1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g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11 – φ2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g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12 =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;              (1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φ1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g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21 + φ2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g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22 =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.      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    (2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5364000" y="2708280"/>
                <a:ext cx="576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1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292720" y="3213000"/>
                <a:ext cx="64764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одсчитаем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11 - сумму проводимостей ветвей, присоединенных к узлу 1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11 =   = 0,25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и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Аналогично 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g</a:t>
            </a: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22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— сумма проводимостей ветвей, присоединенных к узлу 2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22 =  = 0,3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и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умма проводимостей, соединяющих первый и второй узлы,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12 =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21 =  = 0,1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и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одставляя числовые значения в уравнения (1) и (2), получим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0,25 φ1 – 0,1 φ2 = 30  - 56  = - 6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0,1 φ1 + 0,3 φ2 = - 30  + 10  – 200  = - 34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8640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Решив последние два уравнения, найдем потенциалы точек 1 и 2: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φ1 = - 80 в;   </a:t>
            </a: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φ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2 = - 140 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Наконец, применяя закон Ома для отдельных ветвей, определим искомые токи:</a:t>
            </a: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l1 =                                  = 1a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l2 =                                        = 5a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l3 =                                    = 10a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l4 =                                     = 3a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l5 =                        = 4a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l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6 =</a:t>
            </a: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                 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  = 2</a:t>
            </a: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a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Направления найденных токов указаны на структурной схеме рис. 1.46, б цепи рис. 1.46, а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Рекомендуем читателю решить ту же задачу, приняв за нуль потенциал узловой точки 1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348000" y="1268280"/>
                <a:ext cx="2232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48000" y="1916280"/>
                <a:ext cx="24480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203640" y="2565360"/>
                <a:ext cx="2448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348000" y="3213000"/>
                <a:ext cx="22320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708360" y="3933720"/>
                <a:ext cx="15843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924360" y="4581360"/>
                <a:ext cx="12952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Один из способов решения задачи методом  узловых потенциалов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696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Даны: </a:t>
            </a: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E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1 = 20 в, </a:t>
            </a: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E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2 = 30 в, </a:t>
            </a: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E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3 = 2 в, </a:t>
            </a: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E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4=1,2 в, </a:t>
            </a: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E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5 = 5,6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в, </a:t>
            </a: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r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2 = 50 ом,</a:t>
            </a:r>
            <a:r>
              <a:rPr b="1" i="1" lang="ru-RU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r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3 = 10 ом,</a:t>
            </a:r>
            <a:r>
              <a:rPr b="1" i="1" lang="ru-RU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r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4  = 20 ом,</a:t>
            </a:r>
            <a:r>
              <a:rPr b="1" i="1" lang="ru-RU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r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5 = 10 ом.</a:t>
            </a:r>
            <a:r>
              <a:rPr b="1" i="1" lang="ru-RU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r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6</a:t>
            </a:r>
            <a:r>
              <a:rPr b="1" i="1" lang="ru-RU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= 100 ом,</a:t>
            </a:r>
            <a:r>
              <a:rPr b="1" i="1" lang="ru-RU" sz="2200" spc="-1" strike="noStrike">
                <a:solidFill>
                  <a:srgbClr val="40404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r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7 = 50 ом, </a:t>
            </a: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r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8 = 20 о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969840" y="585720"/>
            <a:ext cx="6516720" cy="901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323640" y="141300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852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11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𝒥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+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12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𝒥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2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+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13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𝒥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3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=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11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852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21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𝒥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+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22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𝒥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2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+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23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𝒥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3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=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22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852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31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𝒥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+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32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𝒥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2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+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33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𝒥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3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=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33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8520" algn="ctr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8520" algn="ctr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Где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</a:t>
            </a:r>
            <a:r>
              <a:rPr b="1" lang="it-IT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11</a:t>
            </a:r>
            <a:r>
              <a:rPr b="1" lang="it-IT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= 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1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+ </a:t>
            </a:r>
            <a:r>
              <a:rPr b="1" lang="en-US" sz="1700" spc="-1" strike="noStrike">
                <a:solidFill>
                  <a:srgbClr val="000000"/>
                </a:solidFill>
                <a:latin typeface="Georgia"/>
                <a:ea typeface="Times New Roman"/>
              </a:rPr>
              <a:t>r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Times New Roman"/>
              </a:rPr>
              <a:t>2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= 20 ом,   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12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= 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21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= — 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= — 10 ом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13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= 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31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=0, 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22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= 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+ 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5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+ 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40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+ 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4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= 22 ом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Georgia"/>
                <a:ea typeface="Times New Roman"/>
              </a:rPr>
              <a:t>r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Georgia"/>
                <a:ea typeface="Times New Roman"/>
              </a:rPr>
              <a:t>23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= 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32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=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40</a:t>
            </a:r>
            <a:r>
              <a:rPr b="1" lang="it-IT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+ 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</a:t>
            </a:r>
            <a:r>
              <a:rPr b="1" lang="it-IT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4</a:t>
            </a:r>
            <a:r>
              <a:rPr b="1" lang="it-IT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= 7 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o</a:t>
            </a:r>
            <a:r>
              <a:rPr b="1" lang="kk-KZ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м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,   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33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= 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6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+ 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40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+ 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4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= 22 ом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ndara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andara"/>
                <a:ea typeface="Times New Roman"/>
              </a:rPr>
              <a:t>E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andara"/>
                <a:ea typeface="Times New Roman"/>
              </a:rPr>
              <a:t>11</a:t>
            </a:r>
            <a:r>
              <a:rPr b="1" lang="it-IT" sz="1700" spc="-1" strike="noStrike">
                <a:solidFill>
                  <a:srgbClr val="000000"/>
                </a:solidFill>
                <a:latin typeface="Candara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andara"/>
                <a:ea typeface="Times New Roman"/>
              </a:rPr>
              <a:t>=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Е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1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—Е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—Е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= 60 в;    </a:t>
            </a:r>
            <a:r>
              <a:rPr b="1" lang="en-US" sz="1700" spc="-1" strike="noStrike">
                <a:solidFill>
                  <a:srgbClr val="000000"/>
                </a:solidFill>
                <a:latin typeface="Candara"/>
                <a:ea typeface="Times New Roman"/>
              </a:rPr>
              <a:t>E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andara"/>
                <a:ea typeface="Times New Roman"/>
              </a:rPr>
              <a:t>22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= 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2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- 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4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= 24 в; 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33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= -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- 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</a:t>
            </a:r>
            <a:r>
              <a:rPr b="1" lang="ru-RU" sz="17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4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= -16 в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 algn="ctr">
              <a:lnSpc>
                <a:spcPct val="10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Текст 1" descr=""/>
          <p:cNvPicPr/>
          <p:nvPr/>
        </p:nvPicPr>
        <p:blipFill>
          <a:blip r:embed="rId2"/>
          <a:stretch/>
        </p:blipFill>
        <p:spPr>
          <a:xfrm>
            <a:off x="3236760" y="6022800"/>
            <a:ext cx="1590840" cy="493920"/>
          </a:xfrm>
          <a:prstGeom prst="rect">
            <a:avLst/>
          </a:prstGeom>
          <a:ln w="0">
            <a:noFill/>
          </a:ln>
        </p:spPr>
      </p:pic>
      <p:pic>
        <p:nvPicPr>
          <p:cNvPr id="270" name="Объект 6" descr=""/>
          <p:cNvPicPr/>
          <p:nvPr/>
        </p:nvPicPr>
        <p:blipFill>
          <a:blip r:embed="rId3"/>
          <a:stretch/>
        </p:blipFill>
        <p:spPr>
          <a:xfrm>
            <a:off x="900000" y="476280"/>
            <a:ext cx="7344000" cy="547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Текст 1" descr=""/>
          <p:cNvPicPr/>
          <p:nvPr/>
        </p:nvPicPr>
        <p:blipFill>
          <a:blip r:embed="rId2"/>
          <a:stretch/>
        </p:blipFill>
        <p:spPr>
          <a:xfrm>
            <a:off x="3481560" y="6235560"/>
            <a:ext cx="1670040" cy="567000"/>
          </a:xfrm>
          <a:prstGeom prst="rect">
            <a:avLst/>
          </a:prstGeom>
          <a:ln w="0">
            <a:noFill/>
          </a:ln>
        </p:spPr>
      </p:pic>
      <p:pic>
        <p:nvPicPr>
          <p:cNvPr id="272" name="Объект 6" descr=""/>
          <p:cNvPicPr/>
          <p:nvPr/>
        </p:nvPicPr>
        <p:blipFill>
          <a:blip r:embed="rId3"/>
          <a:stretch/>
        </p:blipFill>
        <p:spPr>
          <a:xfrm>
            <a:off x="971640" y="620640"/>
            <a:ext cx="7561080" cy="547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ешение. В цепи имеется ветвь с источником напряжения, н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одержащая сопротивления. Целесообразно принять равным нулю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отенциал одной из узловых точек, к которой подходит указанная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етвь, например потенциал узла 4 (φ4 = 0). Тогда потенциал точки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меет значение, равное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1, т. е.  𝝋</a:t>
            </a: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1 =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20в.</a:t>
            </a: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бщее число уравне­ний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огласно формуле (1.13), равно двум (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N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у = 4,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N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=1,</a:t>
            </a: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У =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N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у -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N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 - 1 =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2). Таким образом, в данной задаче достаточно составить по методу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узловых потенциалов [см. формулу (1.13)] все­го два уравнения для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узлов 2</a:t>
            </a: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 3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ля узла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φ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1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g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21 +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φ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2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g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22 –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φ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3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g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23 –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φ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4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g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24 =        =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3  –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4   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ля узла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φ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1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g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31 -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φ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2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g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32  +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φ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3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g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33 –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φ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4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g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34 =        =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4  –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5    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724360" y="4292640"/>
                <a:ext cx="503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724360" y="5734080"/>
                <a:ext cx="503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3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394920" y="47592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0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одставляя в эти уравнения числовые значения  сопротивлений, э. д. с, а также значения φ1 = 20 в,</a:t>
            </a: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φ4 = 0, получим после пере­группировки членов для двух неизвестных потенциалов φ2 и φ3 си­стему уравнений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φ2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          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φ3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 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φ2 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+  φ3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        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=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      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,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или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0,17 φ2  - 0,05 φ3  = 0,54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0,05 φ2  +  0,2 φ3  = 1,62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ешая эту систему уравнений, найдем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φ2  = 6 в; 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φ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3  = 9,6 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068640" y="2133720"/>
                <a:ext cx="1635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003640" y="2060640"/>
                <a:ext cx="336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5580000" y="2133720"/>
                <a:ext cx="1008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556000" y="2852640"/>
                <a:ext cx="336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780000" y="2852640"/>
                <a:ext cx="1512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724360" y="2852640"/>
                <a:ext cx="1295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394920" y="549000"/>
            <a:ext cx="8209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0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аконец, применяя к отдельным ветвям формулы закон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ма, получим значения всех токов, которые нанесены на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труктурной схеме (рис. 1.47,6)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l2 = 0,2 a, l3 = 0,4 a, l4 = 0,12 a, l5 = 0,4 a,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l6 = 0,2 a, l7 = 0,28 a, l8 = 0,52 a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щаем особое внимание на то, что в ветви без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опротивления ток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l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1, не определяется законом Ома и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ычисляется на основании первого закона Кирхгофа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l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1 =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l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3 +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l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5 +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l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6 –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l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2 = 0,8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Метод наложения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0328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 algn="ctr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040"/>
                </a:solidFill>
                <a:latin typeface="Trebuchet MS"/>
              </a:rPr>
              <a:t>Дано: E</a:t>
            </a:r>
            <a:r>
              <a:rPr b="0" lang="pt-BR" sz="32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pt-BR" sz="3200" spc="-1" strike="noStrike">
                <a:solidFill>
                  <a:srgbClr val="404040"/>
                </a:solidFill>
                <a:latin typeface="Trebuchet MS"/>
              </a:rPr>
              <a:t>= 10 в,</a:t>
            </a:r>
            <a:r>
              <a:rPr b="0" i="1" lang="pt-BR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pt-BR" sz="32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pt-BR" sz="32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t-BR" sz="3200" spc="-1" strike="noStrike">
                <a:solidFill>
                  <a:srgbClr val="404040"/>
                </a:solidFill>
                <a:latin typeface="Trebuchet MS"/>
              </a:rPr>
              <a:t> = 40в, E</a:t>
            </a:r>
            <a:r>
              <a:rPr b="0" lang="pt-BR" sz="3200" spc="-1" strike="noStrike" baseline="-25000">
                <a:solidFill>
                  <a:srgbClr val="404040"/>
                </a:solidFill>
                <a:latin typeface="Trebuchet MS"/>
              </a:rPr>
              <a:t>3</a:t>
            </a:r>
            <a:r>
              <a:rPr b="0" lang="pt-BR" sz="3200" spc="-1" strike="noStrike">
                <a:solidFill>
                  <a:srgbClr val="404040"/>
                </a:solidFill>
                <a:latin typeface="Trebuchet MS"/>
              </a:rPr>
              <a:t> = 5в, </a:t>
            </a:r>
            <a:r>
              <a:rPr b="0" i="1" lang="pt-BR" sz="32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i="1" lang="pt-BR" sz="3200" spc="-1" strike="noStrike" baseline="-25000">
                <a:solidFill>
                  <a:srgbClr val="404040"/>
                </a:solidFill>
                <a:latin typeface="Trebuchet MS"/>
              </a:rPr>
              <a:t>10</a:t>
            </a:r>
            <a:r>
              <a:rPr b="0" i="1" lang="pt-BR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pt-BR" sz="3200" spc="-1" strike="noStrike">
                <a:solidFill>
                  <a:srgbClr val="404040"/>
                </a:solidFill>
                <a:latin typeface="Trebuchet MS"/>
              </a:rPr>
              <a:t>= 5 ом, r</a:t>
            </a:r>
            <a:r>
              <a:rPr b="0" lang="pt-BR" sz="3200" spc="-1" strike="noStrike" baseline="-25000">
                <a:solidFill>
                  <a:srgbClr val="404040"/>
                </a:solidFill>
                <a:latin typeface="Trebuchet MS"/>
              </a:rPr>
              <a:t>20</a:t>
            </a:r>
            <a:r>
              <a:rPr b="0" i="1" lang="pt-BR" sz="3200" spc="-1" strike="noStrike">
                <a:solidFill>
                  <a:srgbClr val="404040"/>
                </a:solidFill>
                <a:latin typeface="Trebuchet MS"/>
              </a:rPr>
              <a:t>=</a:t>
            </a:r>
            <a:r>
              <a:rPr b="0" lang="pt-BR" sz="32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pt-BR" sz="3200" spc="-1" strike="noStrike" baseline="-25000">
                <a:solidFill>
                  <a:srgbClr val="404040"/>
                </a:solidFill>
                <a:latin typeface="Trebuchet MS"/>
              </a:rPr>
              <a:t>30</a:t>
            </a:r>
            <a:r>
              <a:rPr b="0" i="1" lang="pt-BR" sz="32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pt-BR" sz="3200" spc="-1" strike="noStrike">
                <a:solidFill>
                  <a:srgbClr val="404040"/>
                </a:solidFill>
                <a:latin typeface="Trebuchet MS"/>
              </a:rPr>
              <a:t>2ом,</a:t>
            </a:r>
            <a:r>
              <a:rPr b="0" i="1" lang="pt-BR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pt-BR" sz="32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pt-BR" sz="32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pt-BR" sz="3200" spc="-1" strike="noStrike">
                <a:solidFill>
                  <a:srgbClr val="404040"/>
                </a:solidFill>
                <a:latin typeface="Trebuchet MS"/>
              </a:rPr>
              <a:t> = 30 ом, r</a:t>
            </a:r>
            <a:r>
              <a:rPr b="0" lang="pt-BR" sz="32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i="1" lang="pt-BR" sz="32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pt-BR" sz="3200" spc="-1" strike="noStrike">
                <a:solidFill>
                  <a:srgbClr val="404040"/>
                </a:solidFill>
                <a:latin typeface="Trebuchet MS"/>
              </a:rPr>
              <a:t>3 ом,</a:t>
            </a:r>
            <a:r>
              <a:rPr b="0" i="1" lang="pt-BR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pt-BR" sz="32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pt-BR" sz="3200" spc="-1" strike="noStrike" baseline="-25000">
                <a:solidFill>
                  <a:srgbClr val="404040"/>
                </a:solidFill>
                <a:latin typeface="Trebuchet MS"/>
              </a:rPr>
              <a:t>3</a:t>
            </a:r>
            <a:r>
              <a:rPr b="0" lang="pt-BR" sz="3200" spc="-1" strike="noStrike">
                <a:solidFill>
                  <a:srgbClr val="404040"/>
                </a:solidFill>
                <a:latin typeface="Trebuchet MS"/>
              </a:rPr>
              <a:t> = = 8 ом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 algn="ctr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Рисунок 6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7834320" cy="5761080"/>
          </a:xfrm>
          <a:prstGeom prst="rect">
            <a:avLst/>
          </a:prstGeom>
          <a:ln w="0">
            <a:noFill/>
          </a:ln>
        </p:spPr>
      </p:pic>
      <p:pic>
        <p:nvPicPr>
          <p:cNvPr id="300" name="Текст 3" descr=""/>
          <p:cNvPicPr/>
          <p:nvPr/>
        </p:nvPicPr>
        <p:blipFill>
          <a:blip r:embed="rId3"/>
          <a:stretch/>
        </p:blipFill>
        <p:spPr>
          <a:xfrm>
            <a:off x="3565440" y="6308640"/>
            <a:ext cx="1944720" cy="542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Объект 7" descr=""/>
          <p:cNvPicPr/>
          <p:nvPr/>
        </p:nvPicPr>
        <p:blipFill>
          <a:blip r:embed="rId2"/>
          <a:stretch/>
        </p:blipFill>
        <p:spPr>
          <a:xfrm>
            <a:off x="896760" y="404640"/>
            <a:ext cx="7707600" cy="5400720"/>
          </a:xfrm>
          <a:prstGeom prst="rect">
            <a:avLst/>
          </a:prstGeom>
          <a:ln w="0">
            <a:noFill/>
          </a:ln>
        </p:spPr>
      </p:pic>
      <p:pic>
        <p:nvPicPr>
          <p:cNvPr id="302" name="Текст 3" descr=""/>
          <p:cNvPicPr/>
          <p:nvPr/>
        </p:nvPicPr>
        <p:blipFill>
          <a:blip r:embed="rId3"/>
          <a:stretch/>
        </p:blipFill>
        <p:spPr>
          <a:xfrm>
            <a:off x="3565440" y="6308640"/>
            <a:ext cx="1944720" cy="542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Рисунок 8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7561440" cy="5328000"/>
          </a:xfrm>
          <a:prstGeom prst="rect">
            <a:avLst/>
          </a:prstGeom>
          <a:ln w="0">
            <a:noFill/>
          </a:ln>
        </p:spPr>
      </p:pic>
      <p:pic>
        <p:nvPicPr>
          <p:cNvPr id="304" name="Текст 3" descr=""/>
          <p:cNvPicPr/>
          <p:nvPr/>
        </p:nvPicPr>
        <p:blipFill>
          <a:blip r:embed="rId3"/>
          <a:stretch/>
        </p:blipFill>
        <p:spPr>
          <a:xfrm>
            <a:off x="3565440" y="6308640"/>
            <a:ext cx="1944720" cy="542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Рисунок 9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345440" cy="5256360"/>
          </a:xfrm>
          <a:prstGeom prst="rect">
            <a:avLst/>
          </a:prstGeom>
          <a:ln w="0">
            <a:noFill/>
          </a:ln>
        </p:spPr>
      </p:pic>
      <p:pic>
        <p:nvPicPr>
          <p:cNvPr id="306" name="Текст 3" descr=""/>
          <p:cNvPicPr/>
          <p:nvPr/>
        </p:nvPicPr>
        <p:blipFill>
          <a:blip r:embed="rId3"/>
          <a:stretch/>
        </p:blipFill>
        <p:spPr>
          <a:xfrm>
            <a:off x="3565440" y="6308640"/>
            <a:ext cx="1944720" cy="542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3" descr=""/>
          <p:cNvPicPr/>
          <p:nvPr/>
        </p:nvPicPr>
        <p:blipFill>
          <a:blip r:embed="rId2"/>
          <a:stretch/>
        </p:blipFill>
        <p:spPr>
          <a:xfrm>
            <a:off x="1474920" y="189000"/>
            <a:ext cx="6778440" cy="12985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26920" y="5589720"/>
            <a:ext cx="760104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1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=20 * 22 * 22+ (-10) * 7 * 0 + 0 * (-10) * 7 - 0 * 22 * 0 - 20 * 7 * 7 -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- (- 10) ( - 10) 22 = 9680 - 980 - 2200 = 6500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Объект 6" descr=""/>
          <p:cNvPicPr/>
          <p:nvPr/>
        </p:nvPicPr>
        <p:blipFill>
          <a:blip r:embed="rId3"/>
          <a:stretch/>
        </p:blipFill>
        <p:spPr>
          <a:xfrm>
            <a:off x="179280" y="1341360"/>
            <a:ext cx="878544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95280" y="475920"/>
            <a:ext cx="8353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0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ешение. Обозначим положительные направления токов ис­ходной схемы на рис. 1.52, а. Предположим, что действует только э. д. с. Е1,</a:t>
            </a: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а э. д. с.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2 и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3 — недействующие (рис. 1.52,б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Тогда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=     ,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гд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19 =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1 +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10 +                   = 35 +      =        о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Ток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= 10:        = 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924360" y="2276640"/>
                <a:ext cx="3110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500720" y="2276640"/>
                <a:ext cx="3013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564000" y="3141720"/>
                <a:ext cx="144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867280" y="3213000"/>
                <a:ext cx="390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681960" y="3213000"/>
                <a:ext cx="355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276720" y="4005360"/>
                <a:ext cx="315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284720" y="4005360"/>
                <a:ext cx="469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076720" y="4005360"/>
                <a:ext cx="36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50560" y="188640"/>
            <a:ext cx="856908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Токи в параллельных ветвях определяются по формуле (1.19)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=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              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=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*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=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=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             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=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*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ведем расчет, предполагая, что действует э. д. с.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2, а э. д. с.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1 и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3 не действуют (рис. 1.52, в)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=       ,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гд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29 = r2 + r20 +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           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=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ом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=40.           =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a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=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                     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=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*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=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a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=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-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=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=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979640" y="907920"/>
                <a:ext cx="360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627280" y="907920"/>
                <a:ext cx="341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987640" y="836640"/>
                <a:ext cx="180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003640" y="836640"/>
                <a:ext cx="3812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651640" y="907920"/>
                <a:ext cx="3268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908000" y="1700280"/>
                <a:ext cx="3272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627280" y="1700280"/>
                <a:ext cx="2793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987640" y="1700280"/>
                <a:ext cx="1657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859280" y="1628640"/>
                <a:ext cx="503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5724360" y="1700280"/>
                <a:ext cx="289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300720" y="1700280"/>
                <a:ext cx="324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6227640" y="907920"/>
                <a:ext cx="324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780000" y="2852640"/>
                <a:ext cx="3222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356000" y="2852640"/>
                <a:ext cx="4320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067280" y="3573360"/>
                <a:ext cx="1800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227640" y="3573360"/>
                <a:ext cx="328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987640" y="4508640"/>
                <a:ext cx="4064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427640" y="4437000"/>
                <a:ext cx="4284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148360" y="4508640"/>
                <a:ext cx="312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763640" y="5300640"/>
                <a:ext cx="2793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268360" y="5373720"/>
                <a:ext cx="4064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700360" y="5229360"/>
                <a:ext cx="2303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5292720" y="5229360"/>
                <a:ext cx="336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5867280" y="5229360"/>
                <a:ext cx="3128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6516720" y="5229360"/>
                <a:ext cx="3398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700360" y="6093000"/>
                <a:ext cx="32688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851280" y="6093000"/>
                <a:ext cx="2793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3276720" y="6093000"/>
                <a:ext cx="36036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356000" y="6093000"/>
                <a:ext cx="336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003640" y="6093000"/>
                <a:ext cx="3398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580000" y="6093000"/>
                <a:ext cx="3002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0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Аналогично рассчитаем величины токов при действии только одной э. д. с.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3 (рис. 1.52, </a:t>
            </a: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г)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39 = r3 + r30 +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       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=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ом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=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= 5: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a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=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;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=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Истинное значение тока в каждой ветви найдется как алгебраи­ческая сумма токов, определяемых действием каждой э. д. с. в от дельност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Ток в первой ветв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l1 =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+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+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=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+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+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= 1a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Ток во второй ветв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l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2 =     +     -    = 3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Ток в третьей ветв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l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3 =      +      -      = 2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211640" y="981000"/>
                <a:ext cx="1868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6300720" y="981000"/>
                <a:ext cx="3272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987640" y="1916280"/>
                <a:ext cx="2905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3492360" y="1844640"/>
                <a:ext cx="3970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4500720" y="1844640"/>
                <a:ext cx="333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292720" y="1844640"/>
                <a:ext cx="298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916360" y="2349360"/>
                <a:ext cx="2491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492360" y="2276640"/>
                <a:ext cx="3225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4788000" y="2349360"/>
                <a:ext cx="2476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364000" y="2349360"/>
                <a:ext cx="3002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203640" y="4292640"/>
                <a:ext cx="357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3708360" y="4292640"/>
                <a:ext cx="287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140360" y="4365720"/>
                <a:ext cx="260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643280" y="4365720"/>
                <a:ext cx="26064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5148360" y="4365720"/>
                <a:ext cx="2602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651640" y="4292640"/>
                <a:ext cx="282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4313160" y="5229360"/>
            <a:ext cx="289080" cy="4777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4932360" y="5157720"/>
            <a:ext cx="266760" cy="6206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5364000" y="5157720"/>
            <a:ext cx="266760" cy="6224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3851280" y="6021360"/>
                <a:ext cx="322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500720" y="6021360"/>
                <a:ext cx="2998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5076720" y="6021360"/>
                <a:ext cx="3002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Объект 8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8497800" cy="1360440"/>
          </a:xfrm>
          <a:prstGeom prst="rect">
            <a:avLst/>
          </a:prstGeom>
          <a:ln w="0">
            <a:noFill/>
          </a:ln>
        </p:spPr>
      </p:pic>
      <p:pic>
        <p:nvPicPr>
          <p:cNvPr id="221" name="Объект 9" descr=""/>
          <p:cNvPicPr/>
          <p:nvPr/>
        </p:nvPicPr>
        <p:blipFill>
          <a:blip r:embed="rId3"/>
          <a:stretch/>
        </p:blipFill>
        <p:spPr>
          <a:xfrm>
            <a:off x="468360" y="4724280"/>
            <a:ext cx="8424720" cy="1657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68360" y="3334320"/>
            <a:ext cx="81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2 - алгебраическое дополнение, получающееся из основного опре­делителя ∆ при вычеркивании первой строки н второго столбца, умноженное на (-1)1+2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75600"/>
            <a:ext cx="878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Вычислим значения алгебраических дополнений определителя, рас­считав его миноры и умножив каждый из них на (-1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Cambria Math"/>
                <a:ea typeface="Times New Roman"/>
              </a:rPr>
              <a:t>r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+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urlz MT"/>
                <a:ea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, где </a:t>
            </a:r>
            <a:r>
              <a:rPr b="0" i="1" lang="en-US" sz="1800" spc="-1" strike="noStrike">
                <a:solidFill>
                  <a:srgbClr val="000000"/>
                </a:solidFill>
                <a:latin typeface="Cambria Math"/>
                <a:ea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Times New Roman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номер вычеркиваемой строки, а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- номер вычеркиваемого столбца;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-3394080" y="3255840"/>
            <a:ext cx="257040" cy="133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11280" y="8100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-это алгебраическое дополнение, получающееся из основного определителя 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Times New Roman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путем вычеркивания первой строки и первого столб­ца, умноженное на (- 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1+1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755640" y="1052640"/>
            <a:ext cx="36036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Текст 1" descr=""/>
          <p:cNvPicPr/>
          <p:nvPr/>
        </p:nvPicPr>
        <p:blipFill>
          <a:blip r:embed="rId2"/>
          <a:stretch/>
        </p:blipFill>
        <p:spPr>
          <a:xfrm>
            <a:off x="1384200" y="476280"/>
            <a:ext cx="6759720" cy="719280"/>
          </a:xfrm>
          <a:prstGeom prst="rect">
            <a:avLst/>
          </a:prstGeom>
          <a:ln w="0">
            <a:noFill/>
          </a:ln>
        </p:spPr>
      </p:pic>
      <p:pic>
        <p:nvPicPr>
          <p:cNvPr id="229" name="Объект 6" descr=""/>
          <p:cNvPicPr/>
          <p:nvPr/>
        </p:nvPicPr>
        <p:blipFill>
          <a:blip r:embed="rId3"/>
          <a:stretch/>
        </p:blipFill>
        <p:spPr>
          <a:xfrm>
            <a:off x="108000" y="260280"/>
            <a:ext cx="8928000" cy="48974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340000" y="58298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= 60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635280" y="5589720"/>
                <a:ext cx="3024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00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00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Объект 6" descr=""/>
          <p:cNvPicPr/>
          <p:nvPr/>
        </p:nvPicPr>
        <p:blipFill>
          <a:blip r:embed="rId2"/>
          <a:stretch/>
        </p:blipFill>
        <p:spPr>
          <a:xfrm>
            <a:off x="31680" y="981000"/>
            <a:ext cx="9036000" cy="43210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55640" y="5642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Таким образом, получили те же результаты, что и ране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Объект 7" descr=""/>
          <p:cNvPicPr/>
          <p:nvPr/>
        </p:nvPicPr>
        <p:blipFill>
          <a:blip r:embed="rId2"/>
          <a:stretch/>
        </p:blipFill>
        <p:spPr>
          <a:xfrm>
            <a:off x="31680" y="836640"/>
            <a:ext cx="911232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5" descr=""/>
          <p:cNvPicPr/>
          <p:nvPr/>
        </p:nvPicPr>
        <p:blipFill>
          <a:blip r:embed="rId2"/>
          <a:stretch/>
        </p:blipFill>
        <p:spPr>
          <a:xfrm>
            <a:off x="128520" y="1798560"/>
            <a:ext cx="8886960" cy="2352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136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Даны токи и внутренние проводимости генераторов тока соответственно первого и второго: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= 50 ма,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g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1 = 10-4 сим,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2 = 60 ма,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g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2 = 0,5 • 10-3 сим,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э. д. с. генератора напряжения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E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3 = 270 в; сопротивления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r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3 = 1 ком,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r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4 = 2 ком,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r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5 = 7,5 ком,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r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6 = 3 ко</a:t>
            </a:r>
            <a:r>
              <a:rPr b="0" lang="kk-KZ" sz="2800" spc="-1" strike="noStrike">
                <a:solidFill>
                  <a:srgbClr val="404040"/>
                </a:solidFill>
                <a:latin typeface="Times New Roman"/>
              </a:rPr>
              <a:t>м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9:44:58Z</dcterms:created>
  <dc:creator>DINARA</dc:creator>
  <dc:description/>
  <dc:language>en-US</dc:language>
  <cp:lastModifiedBy>student</cp:lastModifiedBy>
  <dcterms:modified xsi:type="dcterms:W3CDTF">2012-01-21T08:26:42Z</dcterms:modified>
  <cp:revision>27</cp:revision>
  <dc:subject/>
  <dc:title>Презентация PowerPoint</dc:title>
</cp:coreProperties>
</file>